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69E7-E5B1-4E52-9872-A40170317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listed partners in section 17 have no relationship that qualified for any of the three samples (the couple sample, the Udry sample, or the Morris sample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listed partners in section 17 did not have at least one relationship listed in the Section 19 Udry Sam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reported sex with at least one partner in section 17 did not have any relationships in the Section 19 Morris Sam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½ of the relationships from section 17 that were eligible for the Couple sample have relationship records in section 19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309-CB1D-4CF8-977B-F10DF19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51C-2B25-4EAE-BB3E-BED36C7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D81-AC16-46E8-9090-0D0EFE94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D1F-A708-42C1-A236-27A32ADB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133-C172-4336-A798-C909AAB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F1C7-7A6A-4B22-8AEB-4AD4E45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A05E-FADE-4FCC-9B23-C6907A0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41B-BEA0-4060-B9DE-47A3601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7D12-575A-405C-8DBC-C53ABA5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68C-3930-4998-88E4-F2AC923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E4F-481F-45C5-97A6-B74B534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BA6-C3FC-4423-9DF5-ADDD2678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67D-9640-4474-BE12-30918432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1902-7E43-4CF0-8F70-55FBD09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9959-71EB-461B-ADB8-C173578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E824-D694-48A7-A238-A00D42BA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DD5-4C75-4269-B054-7299664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8D5-8DA5-4561-B9EC-C5CC25F5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D3A-2EBC-42B2-87DF-367E7D46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B15-73C6-4047-A088-4ABC34F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6F4-2D90-4697-9A3F-01C0553F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345-E422-462E-8A81-E7ABC84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DD1-DFE0-4DAC-995B-D02D79A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AFA-FD7B-48F5-BDED-A5532F0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AA0A-956F-4FCA-AD0F-C74CD750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6188040"/>
            <a:ext cx="233208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88360" y="6095880"/>
            <a:ext cx="14270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138-1375-4460-AF2F-8AE1944A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1636560" cy="81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6188040"/>
            <a:ext cx="2332080" cy="36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 B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  <a:p>
            <a:pPr lvl="2" marL="914400" algn="ctr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Futura Bk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 B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  <a:p>
            <a:pPr lvl="3" marL="1371600" algn="ctr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Futura Bk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4" marL="1828800" algn="ctr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Futura Bk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scribing Cohabitation and Marriage in Add Heal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124080"/>
            <a:ext cx="662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 Pollard &amp; Kathleen Mullan 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olina Population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versity of North Carolina at Chapel 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riage and Cohabit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006640"/>
            <a:ext cx="74088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lationships in det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ents listed all sexual and romantic relationships that began or ended within the last 6 years (up to 48 relationshi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ed information was obtained about many of the relationships listed, with the relationships selected and questions determined by the three primary funded research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tailed Relationship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006640"/>
            <a:ext cx="7408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ples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heterosexu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age 18, 3 months or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Most Important Relationships”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list devised, based on “complex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current, duration, pregnancy,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Relationships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partners in past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193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Sexual Relationships Sample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=34,167 relationships*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* contributed by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1,038 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295280"/>
            <a:ext cx="4267440" cy="43434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2895480"/>
            <a:ext cx="198108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895480"/>
            <a:ext cx="3200400" cy="31244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4592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029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438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,4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687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,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002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4038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4449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,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671920"/>
            <a:ext cx="266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uples Sampl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=4,010 relationships *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 contributed by 3,979 subject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4724280"/>
            <a:ext cx="30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ost Important Relationships Sample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9,727 relationships*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* contributed by 11,738 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 19: 36,310 Relationships Reported by 11,738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tailed Relationship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006640"/>
            <a:ext cx="7408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rticular samples for particular questions may be different, depending on how they overlap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obvious distinction to note is whether a question applies to “all” or only “current”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examine various types of relationships: cohabitations, marriages, marriages preceded by cohabitation, and dating relations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7600" y="530280"/>
            <a:ext cx="80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ed Wave III Relationships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1676520"/>
            <a:ext cx="39243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for all relationsh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o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Bank 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$500+ Purc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im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You Love Part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Partner Lov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s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520" y="1249200"/>
            <a:ext cx="7696080" cy="0"/>
          </a:xfrm>
          <a:prstGeom prst="line">
            <a:avLst/>
          </a:prstGeom>
          <a:ln w="28440">
            <a:solidFill>
              <a:srgbClr val="e8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676520"/>
            <a:ext cx="403884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relationship 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sid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Other Resid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im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s Eaten Together /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action with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1676520"/>
                <a:gridCol w="220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(N = 2,7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 (N = 6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r (N = 9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$500+ 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Other Resid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143000"/>
          <a:ext cx="8229600" cy="4892760"/>
        </p:xfrm>
        <a:graphic>
          <a:graphicData uri="http://schemas.openxmlformats.org/drawingml/2006/table">
            <a:tbl>
              <a:tblPr/>
              <a:tblGrid>
                <a:gridCol w="1897200"/>
                <a:gridCol w="986400"/>
                <a:gridCol w="986760"/>
                <a:gridCol w="961200"/>
                <a:gridCol w="216000"/>
                <a:gridCol w="982080"/>
                <a:gridCol w="986400"/>
                <a:gridCol w="121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$500+ 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ion By Dur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1676520"/>
                <a:gridCol w="220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 (N = 2,7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 (N = 63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r (N = 93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Love Partner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Loves You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Meals / week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atisfied w/Relationsh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imacy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85800" y="1143000"/>
          <a:ext cx="8229600" cy="4892760"/>
        </p:xfrm>
        <a:graphic>
          <a:graphicData uri="http://schemas.openxmlformats.org/drawingml/2006/table">
            <a:tbl>
              <a:tblPr/>
              <a:tblGrid>
                <a:gridCol w="1897200"/>
                <a:gridCol w="986400"/>
                <a:gridCol w="986760"/>
                <a:gridCol w="959760"/>
                <a:gridCol w="216000"/>
                <a:gridCol w="983520"/>
                <a:gridCol w="986400"/>
                <a:gridCol w="121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Love Partner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Loves You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Meals / week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atisfied w/Relationsh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imacy By Dur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5800" y="1447920"/>
          <a:ext cx="7162920" cy="286524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381240"/>
                <a:gridCol w="1218960"/>
                <a:gridCol w="121932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,1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9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5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,5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ng Exclus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(Cohabiting 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Over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Longitudinal Study of Adolescent Health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of social context influence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Health is a health and health behavior study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s 7-12 (1995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I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s 8-12 (1996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s 18-26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001-2002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habiting Male Reports of Meals Eaten Together Per Week, by Du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638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5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habiting Female Reports of Having a Joint Bank Account with Partner, by Du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5638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,6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descriptives show us what we might expect 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habitation is prevalent: 60% of women, and 50% of men have cohabited by age 25 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onger relationship durations there is increasing consolidation, levels of intimacy, and commitmen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erms of consolidation and intimacy, cohabitors report lower levels than marrieds on each measure at each duration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ransition to Adult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006640"/>
            <a:ext cx="740880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ents are ages 18-26 at Wave I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graphically dense ag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bearing and union 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,197 interviewed c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507 partner intervie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riage and Cohabit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006640"/>
            <a:ext cx="74088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sources of information on marriage and cohabitation hist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mplete marriage / cohabitation hist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 to 3 marriages (N = 2,93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 to 10 cohabitations (N = 7,50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habitation” identified by the question: “Have you ever lived with someone in a marriage-like relationship for one month or more?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y into Cohabitation -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y into Cohabitation -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try into Cohabi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important to note what minimum relationship duration is used to qualify as a “cohabitation”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cohabitations are often assessed or considered only if they last 3 or more month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s a substantial impact on the identification of cohabitation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ry into Cohabitation by Gender and Minimum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try into Cohabi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short term (less than 3 month) cohabitation experiences -- 15% of all cohabitation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re not simply ‘recently entered’ or immediately prior to marriage, but many are completed cohabitations (10%).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brief cohabitation experiences occur over all age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29:44Z</dcterms:created>
  <dc:creator>Pollard</dc:creator>
  <dc:description/>
  <dc:language>en-US</dc:language>
  <cp:lastModifiedBy>Hoda Makar</cp:lastModifiedBy>
  <dcterms:modified xsi:type="dcterms:W3CDTF">2003-11-10T01:53:15Z</dcterms:modified>
  <cp:revision>56</cp:revision>
  <dc:subject/>
  <dc:title>Describing Cohabitation and Marriage in Add Health</dc:title>
</cp:coreProperties>
</file>